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864-6CE1-447C-A82A-BFBBB91F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AE3-EA2D-4704-8D06-4D78A170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C54-F6BD-498E-8194-88829A805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E852-E05A-4E01-94CC-4ACA6A2E4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D2B-2F82-4900-A154-895D828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157-7F0F-421C-A3C7-9175B884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169-AE2E-4AB0-8D0B-5FF16238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9069-F568-4B6F-85FF-B6392B2D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DFDE-F59D-487A-B025-EA3E8DDA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A91-292F-492A-B6CB-ACE3AA36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247-333A-4B69-A589-D7F51953F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49C4-2F0B-489C-B258-0B741454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EB39-5F03-4AE1-A23E-51AB733E56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zdorobr.org/" TargetMode="External"/><Relationship Id="rId2" Type="http://schemas.openxmlformats.org/officeDocument/2006/relationships/hyperlink" Target="mailto:zdorovie.2014@yandex.ru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http://www.iro.perm.ru/uchitel_zdorovia_rossii_2015.html" TargetMode="External"/><Relationship Id="rId5" Type="http://schemas.openxmlformats.org/officeDocument/2006/relationships/hyperlink" Target="http://iro.perm.ru/catalog.html?cid=9" TargetMode="External"/><Relationship Id="rId6" Type="http://schemas.openxmlformats.org/officeDocument/2006/relationships/hyperlink" Target="http://iro.perm.ru/catalog.html?cid=9" TargetMode="External"/><Relationship Id="rId7" Type="http://schemas.openxmlformats.org/officeDocument/2006/relationships/hyperlink" Target="http://iro.perm.ru/catalog.html?cid=9" TargetMode="External"/><Relationship Id="rId8" Type="http://schemas.openxmlformats.org/officeDocument/2006/relationships/hyperlink" Target="http://iro.perm.ru/catalog.html?cid=9" TargetMode="External"/><Relationship Id="rId9" Type="http://schemas.openxmlformats.org/officeDocument/2006/relationships/hyperlink" Target="mailto:ozdip@list.ru" TargetMode="External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ozdip@list.ru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60720" y="620640"/>
            <a:ext cx="68752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раевой этап 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X </a:t>
            </a: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Всероссийского конкурса </a:t>
            </a:r>
            <a:br>
              <a:rPr sz="3600"/>
            </a:b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«Учитель здоровья России - 2019»: условия участия, требования, критери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47560" y="445752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Лядова Наталья Владимировна</a:t>
            </a: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33"/>
                </a:solidFill>
                <a:latin typeface="Calibri"/>
              </a:rPr>
              <a:t>ответственная за проведение краевого конкурс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33"/>
                </a:solidFill>
                <a:latin typeface="Calibri"/>
              </a:rPr>
              <a:t>ведущий научный сотрудник отдела сопровождения ФГОС ИРО ПК, кандидат медицинских наук, доцен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6480" y="28584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оощрение победителя и лауреатов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073160"/>
            <a:ext cx="9144000" cy="56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, призеры и лауреаты Конкурса поощряются денежными вознагражден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се участники 1-го заочного тура Конкурса награждаются дипломам участников, победитель, призеры и лауреаты (участники 2 тура) – диплом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дитель Конкурса будет направлен для очного участия во всероссийском (финальном) этапе X Всероссийского конкурса «Учитель здоровья России – 2019», который будет проводиться 27-29 ноября 2019 года в городе Челябинс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ем документов победителя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1 ноября. Сайт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zdorobr.or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с Оргкомитета: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zdorovie.2014@yandex.ru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028000" y="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спехов участникам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1556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Поиск информации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 конкурсе на сайте ИРО П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483920"/>
            <a:ext cx="9036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АУ ДПО «Институт развития образования Пермского края»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роприятия/«Учитель здоровья России»/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iro.perm.ru/uchitel_zdorovia_rossii_2015.htm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дел сопровождения ФГОС ИРО ПК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iro.perm.ru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/catalog.html?cid=9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л. 8(342)212 21 9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яд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Наталья Владимировна,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ozdip@list.r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8 922 64 79 30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logo2"/>
          <p:cNvPicPr/>
          <p:nvPr/>
        </p:nvPicPr>
        <p:blipFill>
          <a:blip r:embed="rId10"/>
          <a:stretch/>
        </p:blipFill>
        <p:spPr>
          <a:xfrm>
            <a:off x="539640" y="333360"/>
            <a:ext cx="1828800" cy="1125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11"/>
          <a:stretch/>
        </p:blipFill>
        <p:spPr>
          <a:xfrm>
            <a:off x="7667640" y="189000"/>
            <a:ext cx="12445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К участию в Конкурсе</a:t>
            </a:r>
            <a:br>
              <a:rPr sz="3600"/>
            </a:br>
            <a:r>
              <a:rPr b="1" lang="en-US" sz="3600" spc="-1" strike="noStrike">
                <a:solidFill>
                  <a:srgbClr val="339933"/>
                </a:solidFill>
                <a:latin typeface="Calibri"/>
              </a:rPr>
              <a:t>приглашаютс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1600200"/>
            <a:ext cx="89647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чителя и педагоги общеобразовательных организац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едагоги дополнительного образования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реподаватели среднего профессионального образования Пермского кра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Цели Конкурс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лучших учителей, осуществляющих обучение на уроках, занятиях на основе использования современных здоровьесберегающих образовательных технологий, и определение кандидата для участия в финальном этапе X Всероссийского конкурса «Учитель здоровья России – 2019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Задачи Конкурс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ктуализация проблемы формирования культуры здоровья в системе образ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явление инновационных подходов педагогов к формированию культуры здорового и безопасного образа жизни у обучающихся, воспитанников, использования педагогами здоровьесберегающих образовательных технологий, методик в процессе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Туры конкурса и конкурсные мероприя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1-й – заочный ту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нкурсное мероприятие: «Технологическая карта или Конспект урока или занятия»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2-й – очный ту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нкурсные мероприятия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Фрагмент урока или внеклассного занятия с деть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Самоанализ мероприя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Творческая презентация педагогического опыта «Я – учитель здоров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9933"/>
                </a:solidFill>
                <a:latin typeface="Calibri"/>
              </a:rPr>
              <a:t>Сроки провед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уры Конкурс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9933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1-й – заочный – с 20 мая по 9 сентября 2019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проведения - ГАУ ДПО «ИРО ПК»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2) 2-й – очный – 25-26 сентября 2019 г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Место его проведения будет размещено на сайте ГАУ ДПО «ИРО ПК» http://iro.perm.ru/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фициальной эмблем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курса 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является развернута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нига с дубовым листом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Использование официальной эмблемы Конкурса обязательно на краевом этапе X Всероссийского конк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840" y="274680"/>
            <a:ext cx="8580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Условия участия. </a:t>
            </a:r>
            <a:br>
              <a:rPr sz="3200"/>
            </a:b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Перечень направляемых материал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06200" y="1248840"/>
            <a:ext cx="8885520" cy="53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ление участника Конкурса по образцу (Приложение 1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явка на урок или  внеклассное занятие (Приложение 2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ставление заявителя (скан) о Конкурсанте (официальное письмо органа управления образованием муниципального района, городского округа с подписью начальника и печатью) (Приложение 3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нформационная карта участника Конкурс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в формате Wo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и скан)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Приложение 4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ехнологическая карта (план-конспект урока) или внеклассного занятия в электронном виде (Приложение 5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в формате Word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(Приложение 5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ветная фотография участника (портре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450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ники в срок до 9 сентября 2019 года включительно направляют комплект конкурсных документов в Оргкомитет Лядовой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Наталье Владимировне по электронной почте на адрес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ozdip@list.ru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2"/>
          <a:stretch/>
        </p:blipFill>
        <p:spPr>
          <a:xfrm>
            <a:off x="7967520" y="0"/>
            <a:ext cx="117648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Критерии оценки конкурсных материалов </a:t>
            </a:r>
            <a:br>
              <a:rPr sz="2800"/>
            </a:br>
            <a:r>
              <a:rPr b="1" lang="ru-RU" sz="2800" spc="-1" strike="noStrike">
                <a:solidFill>
                  <a:srgbClr val="339933"/>
                </a:solidFill>
                <a:latin typeface="Calibri"/>
              </a:rPr>
              <a:t>заочного тура</a:t>
            </a:r>
            <a:br>
              <a:rPr sz="28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заочном туре жюри оцениваю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хнологическую карту/Конспект урока или за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1746360"/>
          <a:ext cx="8785440" cy="5111640"/>
        </p:xfrm>
        <a:graphic>
          <a:graphicData uri="http://schemas.openxmlformats.org/drawingml/2006/table">
            <a:tbl>
              <a:tblPr/>
              <a:tblGrid>
                <a:gridCol w="360360"/>
                <a:gridCol w="6337440"/>
                <a:gridCol w="2087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сим. количество баллов (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дактическое оформление технологической карты/плана-консп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держание соответствует теме, включает воспитательный компонент по формированию культуры ЗОЖ, здоровьесберегающие технологи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гинальность используемых приемов, форм достижения и оценивания результатов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ьзованная литерату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8034480" y="189000"/>
            <a:ext cx="11095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33"/>
                </a:solidFill>
                <a:latin typeface="Calibri"/>
              </a:rPr>
              <a:t>Очный т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074600"/>
            <a:ext cx="8534520" cy="50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 2-й очный тур выходя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ять участник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набравших в 1-м туре наибольшее количество баллов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339933"/>
                </a:solidFill>
                <a:latin typeface="Calibri"/>
              </a:rPr>
              <a:t>Конкурсные мероприятия очного тур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рагмент урока или внеклассного занятия с детьми – регламент 25 мину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анализ мероприятия – регламент 5 мин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ворческая презентация педагогического опыта участника Конкурса «Я – учитель здоровья» – регламент 7 м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7445520" y="0"/>
            <a:ext cx="13762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3T09:47:00Z</dcterms:created>
  <dc:creator>Ljadova-NV</dc:creator>
  <dc:description/>
  <dc:language>en-US</dc:language>
  <cp:lastModifiedBy>Ljadova-NV</cp:lastModifiedBy>
  <dcterms:modified xsi:type="dcterms:W3CDTF">2019-05-14T09:24:35Z</dcterms:modified>
  <cp:revision>12</cp:revision>
  <dc:subject/>
  <dc:title>Краевой этап  II Всероссийского конкурса  «Школа – территория здоровья - 2018»: условия участия, требования, критерии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635</vt:lpwstr>
  </property>
  <property fmtid="{D5CDD505-2E9C-101B-9397-08002B2CF9AE}" pid="3" name="Version">
    <vt:r8>4</vt:r8>
  </property>
</Properties>
</file>